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5.wmf" ContentType="image/x-wmf"/>
  <Override PartName="/ppt/media/image22.wmf" ContentType="image/x-wmf"/>
  <Override PartName="/ppt/media/image21.gif" ContentType="image/gif"/>
  <Override PartName="/ppt/media/image14.png" ContentType="image/png"/>
  <Override PartName="/ppt/media/image19.wmf" ContentType="image/x-wmf"/>
  <Override PartName="/ppt/media/clap.wav" ContentType="audio/x-wav"/>
  <Override PartName="/ppt/media/image26.jpeg" ContentType="image/jpeg"/>
  <Override PartName="/ppt/media/image18.wmf" ContentType="image/x-wmf"/>
  <Override PartName="/ppt/media/image36.jpeg" ContentType="image/jpeg"/>
  <Override PartName="/ppt/media/image17.wmf" ContentType="image/x-wmf"/>
  <Override PartName="/ppt/media/image15.png" ContentType="image/png"/>
  <Override PartName="/ppt/media/image11.png" ContentType="image/png"/>
  <Override PartName="/ppt/media/image6.wmf" ContentType="image/x-wmf"/>
  <Override PartName="/ppt/media/image9.wmf" ContentType="image/x-wmf"/>
  <Override PartName="/ppt/media/image31.jpeg" ContentType="image/jpeg"/>
  <Override PartName="/ppt/media/image2.png" ContentType="image/png"/>
  <Override PartName="/ppt/media/image38.wmf" ContentType="image/x-wmf"/>
  <Override PartName="/ppt/media/image8.wmf" ContentType="image/x-wmf"/>
  <Override PartName="/ppt/media/image10.gif" ContentType="image/gif"/>
  <Override PartName="/ppt/media/drumroll.wav" ContentType="audio/x-wav"/>
  <Override PartName="/ppt/media/image33.jpeg" ContentType="image/jpeg"/>
  <Override PartName="/ppt/media/image30.jpeg" ContentType="image/jpeg"/>
  <Override PartName="/ppt/media/image7.wmf" ContentType="image/x-wmf"/>
  <Override PartName="/ppt/media/image34.jpeg" ContentType="image/jpeg"/>
  <Override PartName="/ppt/media/image37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applause.wav" ContentType="audio/x-wav"/>
  <Override PartName="/ppt/media/image35.png" ContentType="image/png"/>
  <Override PartName="/ppt/media/image5.png" ContentType="image/png"/>
  <Override PartName="/ppt/media/image12.jpeg" ContentType="image/jpeg"/>
  <Override PartName="/ppt/media/image4.png" ContentType="image/png"/>
  <Override PartName="/ppt/media/image32.jpeg" ContentType="image/jpeg"/>
  <Override PartName="/ppt/media/image24.gif" ContentType="image/gif"/>
  <Override PartName="/ppt/media/image3.png" ContentType="image/png"/>
  <Override PartName="/ppt/media/image1.wmf" ContentType="image/x-wmf"/>
  <Override PartName="/ppt/media/image13.jpeg" ContentType="image/jpeg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0B4-89C2-4CE9-92E8-91EBF7B1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532-3727-4FE6-9E39-563927C7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EEC-4039-430E-9F68-A8DE1E88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67B-1943-4D8E-8C8A-EAB56968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1DB7-0EB4-4B1B-BA7F-919BDD4E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F3C9-415D-46A1-9EB1-5A4881BE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964D-5A0B-4E58-BDB1-E834A426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1DBF-C797-4D7C-95D7-9280802B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0C71-DCD9-4EF1-A77F-D5FE6E12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3645-CF61-4A8E-A796-2DB54030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8941-C549-4680-A812-5E35C39F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99F-0778-4714-AAC7-164E5726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0547-7C38-4E6C-9EBD-2A2FCBB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A4BE-E233-4F75-85DE-493967F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C1D0-5327-4D3B-9035-427C5C00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2D25-FFA0-4800-913C-67902358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91E3-B909-449B-A0A1-C377E351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48F-32B5-4246-B148-AF817B33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0C7-AF48-4872-A744-FE8C40AB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02A-1F61-4DE1-B26E-6A15A210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7C5-C81A-4B73-8627-9DFDA213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52F-4481-4A1E-A90F-1D1B79C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703-08B4-4075-A71B-457EF170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3F1-EC76-4EFF-9963-F3A23C1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7211-8D8D-4E58-8CC9-5F67D775D53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D6D6-C4C6-466D-8D2B-A8DCE784EC9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1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gif"/><Relationship Id="rId10" Type="http://schemas.openxmlformats.org/officeDocument/2006/relationships/image" Target="../media/image25.wmf"/><Relationship Id="rId11" Type="http://schemas.openxmlformats.org/officeDocument/2006/relationships/image" Target="../media/image26.jpeg"/><Relationship Id="rId12" Type="http://schemas.openxmlformats.org/officeDocument/2006/relationships/image" Target="../media/image11.png"/><Relationship Id="rId13" Type="http://schemas.openxmlformats.org/officeDocument/2006/relationships/image" Target="../media/image27.wm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rds.yahoo.com/S=96062857/K=Titanic/v=2/SID=e/l=II/R=15/SS=i/OID=f7786ec8cc2aecfe/SIG=1cmbla2h0/EXP=1137791816/*-http%3A//images.search.yahoo.com/search/images/view?back=http%3A%2F%2Fimages.search.yahoo.com%2Fsearch%2Fimages%3Fp%3DTitanic%26ei%3DUTF-8%26fr%3DFP-tab-img-t%26fl%3D0%26x%3Dwrt&amp;w=335&amp;h=475&amp;imgurl=www.michieldvd.com%2Fdvd%2Freview%2Ftitanic.jpg&amp;rurl=http%3A%2F%2Fwww.michieldvd.com%2Fdvd%2Freview%2Ftitanic_r2.htm&amp;size=25.5kB&amp;name=titanic.jpg&amp;p=Titanic&amp;type=jpeg&amp;no=15&amp;tt=119,598&amp;ei=UTF-8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audio" Target="../media/chimes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11.png"/><Relationship Id="rId7" Type="http://schemas.openxmlformats.org/officeDocument/2006/relationships/image" Target="../media/image34.jpeg"/><Relationship Id="rId8" Type="http://schemas.openxmlformats.org/officeDocument/2006/relationships/audio" Target="../media/chimes.wav"/><Relationship Id="rId9" Type="http://schemas.openxmlformats.org/officeDocument/2006/relationships/audio" Target="../media/drumroll.wav"/><Relationship Id="rId10" Type="http://schemas.openxmlformats.org/officeDocument/2006/relationships/audio" Target="../media/clap.wav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3f35"/>
                </a:solidFill>
                <a:latin typeface="Architects Daughter"/>
              </a:rPr>
              <a:t>Welcome </a:t>
            </a:r>
            <a:br>
              <a:rPr sz="4400"/>
            </a:br>
            <a:r>
              <a:rPr b="0" lang="en-US" sz="4400" spc="-1" strike="noStrike">
                <a:solidFill>
                  <a:srgbClr val="853f35"/>
                </a:solidFill>
                <a:latin typeface="Architects Daughter"/>
              </a:rPr>
              <a:t>To</a:t>
            </a:r>
            <a:br>
              <a:rPr sz="4400"/>
            </a:br>
            <a:r>
              <a:rPr b="0" lang="en-US" sz="4400" spc="-1" strike="noStrike">
                <a:solidFill>
                  <a:srgbClr val="853f35"/>
                </a:solidFill>
                <a:latin typeface="Architects Daughter"/>
              </a:rPr>
              <a:t>Mrs. Williams’</a:t>
            </a:r>
            <a:br>
              <a:rPr sz="4400"/>
            </a:br>
            <a:r>
              <a:rPr b="0" lang="en-US" sz="4400" spc="-1" strike="noStrike">
                <a:solidFill>
                  <a:srgbClr val="853f35"/>
                </a:solidFill>
                <a:latin typeface="Architects Daughter"/>
              </a:rPr>
              <a:t>Computer Lab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2421000" cy="2706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Color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235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2f1311"/>
                </a:solidFill>
                <a:latin typeface="Architects Daughter"/>
              </a:rPr>
              <a:t>PURPL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219320" y="4495680"/>
            <a:ext cx="281916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5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67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20360" y="1414440"/>
            <a:ext cx="473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chitects Daughter"/>
              </a:rPr>
              <a:t>Created By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chitects Daughter"/>
              </a:rPr>
              <a:t>Chelsea, age 1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chitects Daughter"/>
              </a:rPr>
              <a:t>Mrs. Williams’ Daugh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200320" cy="2360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1752480" cy="2468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752480" y="2057400"/>
            <a:ext cx="5029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chitects Daughter"/>
              </a:rPr>
              <a:t>All About Your Teache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chitects Daughter"/>
              <a:ea typeface="Architects Daught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chitects Daughter"/>
              </a:rPr>
              <a:t>Mrs. William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chitects Daughter"/>
              <a:ea typeface="Architects Daughter"/>
            </a:endParaRPr>
          </a:p>
        </p:txBody>
      </p:sp>
    </p:spTree>
  </p:cSld>
  <p:transition spd="slow" advTm="4000">
    <p:wedge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88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Education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Reidsville Senior HS (Diploma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RCC (Transferred to NCCU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North Carolina Central University Durham, NC (Bachelor’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Appalachian State University    Boone, NC (Master’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952880" y="4800600"/>
            <a:ext cx="1376640" cy="1790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990720" y="5029200"/>
            <a:ext cx="2361960" cy="1555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6248520" y="3049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477120" y="3581280"/>
            <a:ext cx="1190520" cy="1228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9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mily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629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chitects Daughter"/>
              </a:rPr>
              <a:t>Two Daughter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5120" y="2349360"/>
            <a:ext cx="24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chitects Daughter"/>
              </a:rPr>
              <a:t>Husband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3809880" cy="2209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3581280" cy="2951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5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Foods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44800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343400" y="2286000"/>
            <a:ext cx="3141720" cy="189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3080" cy="2318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343400" y="4648320"/>
            <a:ext cx="2297160" cy="1838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5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Hobbies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Music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Cook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Mov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Travel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Badmint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Comput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6019920" y="1371600"/>
            <a:ext cx="1447560" cy="1357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5410080" y="4800600"/>
            <a:ext cx="2281320" cy="1401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3200400" y="1752480"/>
            <a:ext cx="1747800" cy="2668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2819520" y="4952880"/>
            <a:ext cx="1819080" cy="1158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1"/>
          <a:stretch/>
        </p:blipFill>
        <p:spPr>
          <a:xfrm>
            <a:off x="5638680" y="3048120"/>
            <a:ext cx="1905120" cy="1360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2"/>
          <a:stretch/>
        </p:blipFill>
        <p:spPr>
          <a:xfrm>
            <a:off x="16765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3"/>
          <a:stretch/>
        </p:blipFill>
        <p:spPr>
          <a:xfrm>
            <a:off x="609480" y="4876920"/>
            <a:ext cx="1822680" cy="1487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14" name="chimes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715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TV Show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Grey’s Anatom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American Id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X Fact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HGT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Image Preview"/>
          <p:cNvPicPr/>
          <p:nvPr/>
        </p:nvPicPr>
        <p:blipFill>
          <a:blip r:embed="rId5"/>
          <a:stretch/>
        </p:blipFill>
        <p:spPr>
          <a:xfrm>
            <a:off x="4343400" y="1905120"/>
            <a:ext cx="2438280" cy="177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838080" y="4267080"/>
            <a:ext cx="4667400" cy="1814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7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Movies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Titanic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Noteboo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Facing the Gia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Beauty and the Bea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523880"/>
            <a:ext cx="2305080" cy="2514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Go to fullsize image"/>
          <p:cNvPicPr/>
          <p:nvPr/>
        </p:nvPicPr>
        <p:blipFill>
          <a:blip r:embed="rId7"/>
          <a:stretch/>
        </p:blipFill>
        <p:spPr>
          <a:xfrm>
            <a:off x="2133720" y="4038480"/>
            <a:ext cx="235584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8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Favorite Music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Gosp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Contemporary Christ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chitects Daughter"/>
              </a:rPr>
              <a:t>Jazz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800600" y="3733920"/>
            <a:ext cx="2590920" cy="2549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962520" y="1676520"/>
            <a:ext cx="3617640" cy="1636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5053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1828800" y="3657600"/>
            <a:ext cx="26049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  <p:sndAc>
      <p:stSnd>
        <p:snd r:embed="rId8" name="chimes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54:21Z</dcterms:created>
  <dc:creator>380-Student</dc:creator>
  <dc:description/>
  <dc:language>en-US</dc:language>
  <cp:lastModifiedBy> </cp:lastModifiedBy>
  <dcterms:modified xsi:type="dcterms:W3CDTF">2012-08-13T03:05:11Z</dcterms:modified>
  <cp:revision>10</cp:revision>
  <dc:subject/>
  <dc:title>All about your teacher, Mrs. Williams</dc:title>
</cp:coreProperties>
</file>